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9B7-7849-46D0-BE43-A3611D04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908-8793-4528-89BA-04F0884F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A548F-136C-404D-8519-FBCB3386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CECFC-55DF-4470-8B7E-13444CDB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5BFF1-C0CF-4ED6-8E1D-69085FD9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C8932-551E-40C0-8F2C-C10A9BF5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014B6-5FA7-4A45-B2EB-AAED327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86980-6B82-4E4C-A0CC-0AD8EDDF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76893-BF3D-4B17-A4C7-EDD275F4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84450-1E06-4566-A291-EB914AB4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3B1C0-A641-44FA-AEAD-B1533C91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40115-2F31-4B01-A5E7-7ACD4B36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0DD-5A56-41BA-8D22-F36937C3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74207-1EDF-432C-BA12-58B89F01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0E5F2-A711-4A63-AC51-7BE74E53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6BF8D-3CFA-4770-8D33-8F7524C0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7E35D-0FD5-47B8-B690-A53AEB90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7C07D-4455-4D9F-8964-6024DE33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18ED4-96B9-48C3-AF26-E129EA62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CA1A2-C00B-4B46-91B8-6F602BC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50A6C-88F6-4049-A603-E5B2CC7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A6FD8-92CA-41D7-A9FE-8AD4EFFC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7F087-4480-4C34-A6AD-174C4AFA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743-16F7-4573-B1EE-25EACCC9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A88FA-AD8E-4B3F-A84B-418783D5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E964D-744B-498F-A7E7-383F0B5F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6BAC9-C186-4F88-A5D6-C95C3BB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C2AD-E4A5-43C4-BBEC-51119BA1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F36F1-1C3A-4E3C-983B-73C1C18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80BE9-AB7E-4435-B8F3-DB972B36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25249-541F-4EEA-BD7D-84A9283A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61242-CF4C-45C5-94B1-F86D1B5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45BB2-001C-49B8-BFE8-E71723E7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7EBC3-D51F-4F7F-9F85-C7A4D8DD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4B87-D21E-47E8-859D-40AC29A6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F49D8-6411-44FF-9A7C-C18224B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52150-3399-4B8D-9C35-A4CCD973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FA757-EF7B-4259-BED7-10095300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3143D-C8CF-4F3B-BAA3-00C5FB8A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57355-63B0-42F9-BA41-B6D81F8B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80916-AEB7-4DB0-9B5E-0DF00D64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C200D-8D53-4A25-AE92-17A2926C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B3F09-6E80-40AC-8566-B3A7E7BD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43AA1-2766-4AB8-9065-22910B46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D157E-4BC7-43D9-91E4-2E7E35B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4A59-09FA-4437-86EE-013228C5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1AEAC-6348-42AA-82BF-EF78ECF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8EB80-ECA4-455D-94E5-D66BC51C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49C47-B5C8-4BF7-9ADD-E4DFA353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91872-97D8-45EB-A9AA-362B485A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FCC56-A7D4-472E-A6B5-4762329D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8BB20-B8B7-4B62-AE01-007762CF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98915-50A1-429B-B5AE-F8817999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0B49C-E696-41FE-9DF4-A9677683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D7A52-D0C5-4656-8829-169654AB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57BB1-8D7A-41EA-A6AA-842734F4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1A23-2873-4E39-B144-9B5ACAFF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90388-BB05-49F4-BFE3-FFC0F6B4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EBBB5-4B50-4111-B1FC-14148B5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F87E1-263B-407D-B86C-D225E343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00021-0440-408A-92E9-3C57A3FA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1F28A-CDE3-43A1-A790-C48B47F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93CCB-0386-4631-BD4F-04A0FC50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7BBCB-E1C8-4247-BADF-84B83555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2CEC-7B75-4A31-80A0-7C43296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539B-5E52-48C4-8C4B-207A0C4E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8C0F-DF91-46EF-BBD3-287798EA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9235-F697-45AE-83E0-5BE36DAE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B4A-0610-4254-883D-1F43159A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6AE2-EAE9-4F6C-B897-7CA6958F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8015-8061-4F64-8149-43D1792C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07FE-199B-4E2E-B029-D73014DB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8990-8D22-4635-B98A-807BD87A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FDCE-EFEA-4000-8A96-C32DDA34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ACA1-8028-4150-BAEE-CE79BBA1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B096-3CD3-464F-AB30-DA25F63C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A735-F9CE-4BD9-BC37-37C43CCA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AFE7-791F-45B8-A80E-9177C87E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066C-3635-4894-AC67-A7E5EA8F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E5B-86D1-49F1-BEEE-C7F56935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ED08-74F3-4099-A97B-FD3C2B19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4418-FD5D-40AD-A17F-07FED10A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9CBB-2680-4180-90AB-51C15EE1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98EB-4933-4CD3-88A3-05F02E0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41EC-668D-4E49-9E11-66993D1E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230D-054A-49A9-A39D-EECBA618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FAF2-CF27-4D3F-B5EB-D7D631B7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EDC23-6998-4BD1-BC09-4DAD6FEB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7408-C37A-4929-8279-1BCBDDB1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24A4-3742-406D-8ACB-FB5528D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01F-A9FE-4C26-922B-D5BB6689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59049-C94E-4F8B-9429-80D6D9BB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67F0-D605-476A-93C0-2EB63CF8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6217A-C034-432C-A324-90637FA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D806-A4FF-43E8-8469-F5338FF4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686CE-7384-4BF4-9A56-7AD1CF5A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523B-990E-418D-9519-34A4214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CEBB-00FC-42DD-88F9-99D8E728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86838-E541-472C-902B-2B5B1F79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B918-8983-4B7C-876C-A6F643A3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47E72-A50A-48BF-A41C-077B3F8F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D87-C3B1-483E-94D2-DD170D2B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C458A-787F-4F59-BF29-A6FED7CD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9FA9-1BAA-4189-845C-873DFAF1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3BFD3-54C1-4EC6-8066-F6A5648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59B3F-5ADE-400F-83E3-10FCDB0D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27A7-16B9-4C56-8D3F-04E23B86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5BD9-EDD7-4DD8-BA33-20C8F2C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86F6-B487-4885-AF91-8897A188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E296C-6EEF-4802-B295-31604CAA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1150B-03E7-47B5-828A-C3EDE96A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9FA32-82C6-46DD-A7B2-DEFA8C9D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2DE-711C-4453-9B52-C53C836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1BE94-AC4D-4555-A18D-E279F897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39A19-9EA1-4832-8E8C-2E2B9B5F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3B2C7-0B42-42EC-BF59-AD22CD1C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18351-9957-4BE0-B400-557E23C0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A426B-83F7-4400-83C5-77ECA0D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BB43-6EB2-4F13-A278-EB9026C9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4C5E6-7294-458C-B74E-8F654D72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D264B-C97E-40EC-86AB-FE6BB71F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71C95-C658-4068-B39F-72668C09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7AED-0BD6-4415-8718-69E5A225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1A2-6267-4188-92AD-7D51078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4A0A7-85A7-4668-BDB0-DCF04C93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31CF9-3974-4022-9F4D-17F340DC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C24A-BC7E-42E5-A545-9D5373C0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A6545-946C-4687-A0D8-565EAC9E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8F320-D259-4345-ACE4-BDD6A837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22204-40FB-4A8C-8EC3-849317EB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17A5-3C6B-4B5D-B521-05E49F21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E7FBC-9DA8-4D6C-9432-0133FB0C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DC49-330D-41D9-A564-3183970A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E98E0-F892-4FF9-8195-A56120B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E51-292E-46E7-8436-9C77C76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2E338-CED9-4F1E-9039-7059FC7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A05FE-2E78-4E80-96BD-F272486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7F10F-B9D0-442B-9895-B9560DE2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998E4-C6BA-4D9E-9C7B-502109E8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19712-37FC-487D-8B58-EC001B1F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66E5E-BACF-42A9-9E6D-4A1A634E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7E196-E8CE-48FA-86C5-47285777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E19A9-D57E-4169-A28A-D6356FCB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B1A5C-F476-4AEF-B8EA-B1942AE8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973DE-8C91-4CF9-9056-5CF37DF4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6EB-02ED-4757-917C-4569E55D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8DB53-B5D9-4A48-B880-25ED1C2E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D25AD-0484-439D-8B8B-F9C36312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D6C0-1A9E-4A87-8666-C54A893D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5F9EA-9F7B-4FF3-8D9A-70412C5E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03F49-9D00-4655-B33D-D795AE69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ABFCB-73EC-4ED7-8660-FD7B0E12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AF4A-E3A4-45FA-8CD5-41E1FE18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EE1E2-BD41-41C5-B963-E62675E0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1FAE1-DC52-4331-8145-21BE4B82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46242-84FB-4E35-8D6C-D8A9E111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69738-EF5C-4671-BE85-4E4E9DD82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FC301-1FAD-42D3-BC3A-E03A2CA11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92D27-9BAA-4990-8A68-06731D3956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7623E-7F49-4EE9-B3BF-DEFC051B0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37DD2-B297-4CB7-9DB3-0F66DD803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68D4A-F945-4666-9C00-B1E65C3CE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68440-183D-4946-B140-186FF9E51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C3B9B-9491-49A6-A065-0DE374178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6CE14-9B6A-4B8C-8264-C45FC89600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F9932-482F-4DE3-8F0D-75C0724EB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EF40D-D8A8-4BF5-91A8-76990C6A0F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582B8-F427-47B4-9CC9-AF73B083C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99643-B508-4AF4-B398-3B7D708F6A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B2407-E4B4-4561-A340-5BB050489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5676A-E353-4148-99CF-B89A3DA34A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F14C0-4218-4C05-9F5D-B599D02B1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B65ED-6B90-4258-824D-12E65EC46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9530C-AB1D-4252-B6F5-94310FE88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DF007-993D-4041-A280-B20F28B6D9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2D135-46B0-4BC5-A36A-190817FF1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655AE-7647-4804-B6D9-B7452711DC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C28CA-ADDB-4906-8A04-FF9F85172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89F72-3883-4343-8DFD-7D9833AB59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C5CAA-4668-4BBA-9E99-48DB46889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0625A-1727-4639-A439-6C3FD610DB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48A62-31AC-4A8E-B853-7C5DC5794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avelyonok@hse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МЕЖДУНАРОДНАЯ КОНФЕРЕНЦИЯ по ИСТОРИИ УПРАВЛЕНЧЕСКОЙ МЫСЛИ И БИЗНЕСА , Москва, 21.09.2018 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ubtitle 2"/>
          <p:cNvSpPr/>
          <p:nvPr/>
        </p:nvSpPr>
        <p:spPr>
          <a:xfrm>
            <a:off x="614520" y="2954160"/>
            <a:ext cx="79149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 Semibold"/>
              </a:rPr>
              <a:t>Какой менеджмент нам нуже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ubtitle 2"/>
          <p:cNvSpPr/>
          <p:nvPr/>
        </p:nvSpPr>
        <p:spPr>
          <a:xfrm>
            <a:off x="766800" y="4587840"/>
            <a:ext cx="79153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к.э.н., доцент Института образования НИУ ВШ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Е.А.Савелён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hse.ru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ubtitle 2"/>
          <p:cNvSpPr/>
          <p:nvPr/>
        </p:nvSpPr>
        <p:spPr>
          <a:xfrm>
            <a:off x="614520" y="2727360"/>
            <a:ext cx="8035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СПАСИБ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м.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903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) 134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-8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Myriad Pro"/>
                <a:hlinkClick r:id="rId2"/>
              </a:rPr>
              <a:t>esavelyonok@hse.ru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Subtitle 2"/>
          <p:cNvGrpSpPr/>
          <p:nvPr/>
        </p:nvGrpSpPr>
        <p:grpSpPr>
          <a:xfrm>
            <a:off x="255600" y="2133720"/>
            <a:ext cx="8791560" cy="2614320"/>
            <a:chOff x="255600" y="2133720"/>
            <a:chExt cx="8791560" cy="2614320"/>
          </a:xfrm>
        </p:grpSpPr>
        <p:pic>
          <p:nvPicPr>
            <p:cNvPr id="53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90120" cy="26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255600" y="2133720"/>
              <a:ext cx="8791560" cy="26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Не тот мне знаток в корабле, кто перечел и перемерял каюты и веревки, но кто познал силу и природу корабля: тот, разумея компас, разумеет путь его и все околич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ригорий Сковор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Россией управлять совсем не сложно, но совершенно бесполезно [бессмысленно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лександр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I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9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У каждого из нас есть только одно истинное призвание – найти путь к самому себ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ерман Гесс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55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Я 30 лет изучаю менеджмент, а ты меня тут учишь жизни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(фраза из жизни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61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Человек, рожденный от жены, краткодневен и пресыщен печа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нига И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6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В основе свободы и автономности индивида лежит … простое эмпирическое осознание, непередаваемое ощущение очень личной взаимосвязи человека и внеземной силы, которая действует как противовес «миру» и его «разуму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.Г. Юн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7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Любое общее образование, лишенное ориентации на предельные смысловые проблемы, на высшие ценности и смысл бытия — ущерб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.А.Пин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Subtitle 2"/>
          <p:cNvGrpSpPr/>
          <p:nvPr/>
        </p:nvGrpSpPr>
        <p:grpSpPr>
          <a:xfrm>
            <a:off x="628560" y="2712960"/>
            <a:ext cx="8058240" cy="2054160"/>
            <a:chOff x="628560" y="2712960"/>
            <a:chExt cx="8058240" cy="2054160"/>
          </a:xfrm>
        </p:grpSpPr>
        <p:pic>
          <p:nvPicPr>
            <p:cNvPr id="579" name="Subtitle 2" descr=""/>
            <p:cNvPicPr/>
            <p:nvPr/>
          </p:nvPicPr>
          <p:blipFill>
            <a:blip r:embed="rId2"/>
            <a:stretch/>
          </p:blipFill>
          <p:spPr>
            <a:xfrm>
              <a:off x="631440" y="2712960"/>
              <a:ext cx="805500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628560" y="2714760"/>
              <a:ext cx="8058240" cy="20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ТАК КТО ЖЕ МЫ ТАКИЕ, МЕНЕДЖЕРЫ ???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45:29Z</dcterms:created>
  <dc:creator>vkremlev</dc:creator>
  <dc:description/>
  <dc:language>en-US</dc:language>
  <cp:lastModifiedBy>marshev vadim ivanovich</cp:lastModifiedBy>
  <cp:lastPrinted>2016-10-31T15:52:17Z</cp:lastPrinted>
  <dcterms:modified xsi:type="dcterms:W3CDTF">2018-09-21T06:44:53Z</dcterms:modified>
  <cp:revision>455</cp:revision>
  <dc:subject/>
  <dc:title>Slide 1</dc:title>
</cp:coreProperties>
</file>