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8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27.wmf" ContentType="image/x-wmf"/>
  <Override PartName="/ppt/media/image16.jpeg" ContentType="image/jpeg"/>
  <Override PartName="/ppt/media/image25.wmf" ContentType="image/x-wmf"/>
  <Override PartName="/ppt/media/image24.png" ContentType="image/png"/>
  <Override PartName="/ppt/media/image23.wmf" ContentType="image/x-wmf"/>
  <Override PartName="/ppt/media/image21.jpeg" ContentType="image/jpeg"/>
  <Override PartName="/ppt/media/image22.png" ContentType="image/png"/>
  <Override PartName="/ppt/media/image20.jpeg" ContentType="image/jpeg"/>
  <Override PartName="/ppt/media/image19.wmf" ContentType="image/x-wmf"/>
  <Override PartName="/ppt/media/image18.wmf" ContentType="image/x-wmf"/>
  <Override PartName="/ppt/media/image17.png" ContentType="image/png"/>
  <Override PartName="/ppt/media/image15.jpeg" ContentType="image/jpeg"/>
  <Override PartName="/ppt/media/image2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C1D-4DBD-4E8D-9C9A-95B2B87F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B12-6310-49AF-988E-1F00BB7F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9E5-A3BB-41A8-8B44-A4EB7627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455-2FFA-4592-A522-5F2DE1AC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4879-000D-4DCE-806A-1F08A789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9192-2A72-42C4-A00E-F387EC48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29CD-AB65-4439-8414-239A0920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50BD-CDA8-4C34-B893-A3C1182F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2F70-63A9-417F-B68A-AE4AEA45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04A8-8B0F-4EAF-A1DA-92114EF8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8983-81FD-4BB2-9C2C-0A1A0A7D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2F5B-0986-49A5-9EB1-AE57C6CC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0175-9B4B-432B-9FD5-82E69D10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D17E-2055-4F56-9164-25DCA6E5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BDA1-3792-4CC7-8A33-98A102F4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E374-A10C-4668-8505-E8740719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9810-9130-482D-BFC7-19DDFEFA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3F929-E987-4F7F-9697-4A2653F2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8B898-A0FF-4C6F-9B05-4C0B00C4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2E680-CB1E-4569-9DE3-3B36A2B9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8C246-C8AF-4088-B2ED-E62C33FA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C2BA7-3FA0-4A83-9A5C-28B57B3D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D16-DC7B-48A3-89F2-9847BFDB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7D137-FF0E-45B2-BB7A-587672AC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6D9A8-988A-44EA-87BE-36478361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69051-2060-44AF-AFB7-2B934F3D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C7D8F-CE30-4998-BA23-BD4614AB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FAA23-923D-4F1A-826A-6320388A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5DFFC-BE26-4C04-9556-33B00AB3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4FF1-FBA0-43B4-9544-A61A48BD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53182-7A35-4534-AF68-93525A96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AD144F-E006-4DDF-969C-AB3A4027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7D770A-4DFA-4B33-B401-FFB2FABC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46C-BF27-4496-9F4D-F35EBC01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F6985-A865-4F8A-A44B-F10383F7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EB5671-6C68-4408-931F-C3B5FAD5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F2A871-4B10-4893-BDE3-35B76649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DCAACE-00F7-49BD-84D6-508B1D6E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10E38-9039-4C7E-A2F9-7943B666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665506-33BC-4ED7-B2D4-A3328DF6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91F22B-2BA4-45B0-BF31-4327BC44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681BFE-F0C1-41E2-B591-1BF9EBBD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381067-1F02-4069-BF85-27853AC0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194-29C2-4A41-ADE2-8788DF38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DCD-3625-4D98-83C1-FF029B17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A68-7780-4DD0-A555-FA643A18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0C7-42E5-404A-A4C8-1AA366EE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229-FF53-4CC3-A3E1-07FE905F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87FB-FB8A-4192-A16F-54E01934A3F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AB2F-69C2-4054-A84A-07C8BB4426E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3BCC-264D-4EE3-8910-B9D7F3957A7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1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1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4ED9-422B-425D-A62F-E44F4C3CB87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3"/>
          <p:cNvSpPr/>
          <p:nvPr/>
        </p:nvSpPr>
        <p:spPr>
          <a:xfrm>
            <a:off x="2341440" y="187632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влияния факторов национальной культуры на формирование роли менеджера в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920880" y="4017960"/>
            <a:ext cx="1620720" cy="798480"/>
          </a:xfrm>
          <a:prstGeom prst="rect">
            <a:avLst/>
          </a:prstGeom>
          <a:ln w="0">
            <a:noFill/>
          </a:ln>
        </p:spPr>
      </p:pic>
      <p:sp>
        <p:nvSpPr>
          <p:cNvPr id="203" name="Заголовок 1"/>
          <p:cNvSpPr/>
          <p:nvPr/>
        </p:nvSpPr>
        <p:spPr>
          <a:xfrm>
            <a:off x="5637240" y="3102120"/>
            <a:ext cx="6489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1181f"/>
                </a:solidFill>
                <a:latin typeface="Times New Roman"/>
              </a:rPr>
              <a:t>Трифонов П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2000"/>
            </a:br>
            <a:r>
              <a:rPr b="1" lang="ru-RU" sz="2000" spc="-1" strike="noStrike">
                <a:solidFill>
                  <a:srgbClr val="01181f"/>
                </a:solidFill>
                <a:latin typeface="Times New Roman"/>
              </a:rPr>
              <a:t>к.э.н., доц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1181f"/>
                </a:solidFill>
                <a:latin typeface="Times New Roman"/>
              </a:rPr>
              <a:t>Департамент менедж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25A6-94C4-4A28-878D-AC53C8CFF7BD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1"/>
          <p:cNvSpPr/>
          <p:nvPr/>
        </p:nvSpPr>
        <p:spPr>
          <a:xfrm>
            <a:off x="4287960" y="48988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cow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4" descr=""/>
          <p:cNvPicPr/>
          <p:nvPr/>
        </p:nvPicPr>
        <p:blipFill>
          <a:blip r:embed="rId3"/>
          <a:stretch/>
        </p:blipFill>
        <p:spPr>
          <a:xfrm>
            <a:off x="0" y="0"/>
            <a:ext cx="1476360" cy="15447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"/>
          <p:cNvSpPr/>
          <p:nvPr/>
        </p:nvSpPr>
        <p:spPr>
          <a:xfrm>
            <a:off x="3492360" y="146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нференции ИУМ-2018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«Управленческий труд и роли менеджеров: прошлое, настоящее, будуще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2" descr=""/>
          <p:cNvPicPr/>
          <p:nvPr/>
        </p:nvPicPr>
        <p:blipFill>
          <a:blip r:embed="rId1"/>
          <a:srcRect l="0" t="0" r="0" b="75280"/>
          <a:stretch/>
        </p:blipFill>
        <p:spPr>
          <a:xfrm>
            <a:off x="243000" y="2143080"/>
            <a:ext cx="8665920" cy="6382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3"/>
          <p:cNvSpPr/>
          <p:nvPr/>
        </p:nvSpPr>
        <p:spPr>
          <a:xfrm>
            <a:off x="6732720" y="855720"/>
            <a:ext cx="8448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ussia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179280" y="645336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http://www.worldvaluessurvey.org/WVSDocumentationWV6.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Archive Logo"/>
          <p:cNvPicPr/>
          <p:nvPr/>
        </p:nvPicPr>
        <p:blipFill>
          <a:blip r:embed="rId2"/>
          <a:stretch/>
        </p:blipFill>
        <p:spPr>
          <a:xfrm>
            <a:off x="237960" y="806400"/>
            <a:ext cx="2248200" cy="13240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7" descr=""/>
          <p:cNvPicPr/>
          <p:nvPr/>
        </p:nvPicPr>
        <p:blipFill>
          <a:blip r:embed="rId3"/>
          <a:stretch/>
        </p:blipFill>
        <p:spPr>
          <a:xfrm>
            <a:off x="468360" y="2819520"/>
            <a:ext cx="7199280" cy="14270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5"/>
          <p:cNvSpPr/>
          <p:nvPr/>
        </p:nvSpPr>
        <p:spPr>
          <a:xfrm>
            <a:off x="2771640" y="855720"/>
            <a:ext cx="4572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United States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5660280" y="12841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9" descr=""/>
          <p:cNvPicPr/>
          <p:nvPr/>
        </p:nvPicPr>
        <p:blipFill>
          <a:blip r:embed="rId4"/>
          <a:stretch/>
        </p:blipFill>
        <p:spPr>
          <a:xfrm>
            <a:off x="237960" y="4937040"/>
            <a:ext cx="7801200" cy="14637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0" descr=""/>
          <p:cNvPicPr/>
          <p:nvPr/>
        </p:nvPicPr>
        <p:blipFill>
          <a:blip r:embed="rId5"/>
          <a:srcRect l="0" t="81368" r="0" b="0"/>
          <a:stretch/>
        </p:blipFill>
        <p:spPr>
          <a:xfrm>
            <a:off x="595440" y="4941720"/>
            <a:ext cx="8450280" cy="31284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13" descr=""/>
          <p:cNvPicPr/>
          <p:nvPr/>
        </p:nvPicPr>
        <p:blipFill>
          <a:blip r:embed="rId6"/>
          <a:srcRect l="-4060" t="-4150" r="4064" b="78615"/>
          <a:stretch/>
        </p:blipFill>
        <p:spPr>
          <a:xfrm>
            <a:off x="181080" y="4530600"/>
            <a:ext cx="84484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3"/>
          <p:cNvSpPr/>
          <p:nvPr/>
        </p:nvSpPr>
        <p:spPr>
          <a:xfrm>
            <a:off x="6732720" y="855720"/>
            <a:ext cx="8448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ussia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4"/>
          <p:cNvSpPr/>
          <p:nvPr/>
        </p:nvSpPr>
        <p:spPr>
          <a:xfrm>
            <a:off x="179280" y="645336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http://www.worldvaluessurvey.org/WVSDocumentationWV6.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Archive Logo"/>
          <p:cNvPicPr/>
          <p:nvPr/>
        </p:nvPicPr>
        <p:blipFill>
          <a:blip r:embed="rId1"/>
          <a:stretch/>
        </p:blipFill>
        <p:spPr>
          <a:xfrm>
            <a:off x="237960" y="806400"/>
            <a:ext cx="2248200" cy="132408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5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8809200" cy="30067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7"/>
          <p:cNvSpPr/>
          <p:nvPr/>
        </p:nvSpPr>
        <p:spPr>
          <a:xfrm>
            <a:off x="2771640" y="855720"/>
            <a:ext cx="4572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United States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5660280" y="12841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3"/>
          <p:cNvSpPr/>
          <p:nvPr/>
        </p:nvSpPr>
        <p:spPr>
          <a:xfrm>
            <a:off x="6732720" y="855720"/>
            <a:ext cx="8448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ussia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Archive Logo"/>
          <p:cNvPicPr/>
          <p:nvPr/>
        </p:nvPicPr>
        <p:blipFill>
          <a:blip r:embed="rId1"/>
          <a:stretch/>
        </p:blipFill>
        <p:spPr>
          <a:xfrm>
            <a:off x="237960" y="806400"/>
            <a:ext cx="2248200" cy="132408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7"/>
          <p:cNvSpPr/>
          <p:nvPr/>
        </p:nvSpPr>
        <p:spPr>
          <a:xfrm>
            <a:off x="2771640" y="855720"/>
            <a:ext cx="4572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United States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5660280" y="12841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"/>
          <p:cNvSpPr/>
          <p:nvPr/>
        </p:nvSpPr>
        <p:spPr>
          <a:xfrm>
            <a:off x="5380920" y="80640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"/>
          <p:cNvSpPr/>
          <p:nvPr/>
        </p:nvSpPr>
        <p:spPr>
          <a:xfrm>
            <a:off x="71280" y="2117880"/>
            <a:ext cx="896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Для российских базовых ценностей характерна следующая иерарх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любие – Ответственность – Терп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американце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пимость- Трудолюбие-Ответ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ад установками американцев преобладают следующие российские це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любие, Ответственность, Бережливость, Решительность, Самовыраж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уш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американцев делается больший акцент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зависим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ображение, терпимость, религиозность, бескоры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Между представителями разных поколений в России существует разница в роли ценно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любие, терпимость, бережливость для старшего поколения наиболее ва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висимость, решительность, самовыражение для молодого поколения очень ценны. Причем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зависим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максимальную раз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280" y="6237360"/>
            <a:ext cx="7885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algn="just">
              <a:buClr>
                <a:srgbClr val="0461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 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i="1" lang="en-US" sz="2400" spc="-1" strike="noStrike">
                <a:solidFill>
                  <a:srgbClr val="04617b"/>
                </a:solidFill>
                <a:latin typeface="Calibri"/>
              </a:rPr>
              <a:t>Z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– индивидуалисты, выстроить «команду» сложнее, поэтому передача ценностей должна носить персонифицированный характер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   Поколение </a:t>
            </a:r>
            <a:r>
              <a:rPr b="0" i="1" lang="en-US" sz="2400" spc="-1" strike="noStrike">
                <a:solidFill>
                  <a:srgbClr val="04617b"/>
                </a:solidFill>
                <a:latin typeface="Calibri"/>
              </a:rPr>
              <a:t>Z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осознают себя уникальными и склонны к самовыражению, не считают нужным использовать бенчмаркинг, поэтому они более осознанно и прагматично относятся к получению результата («трудоголики»)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Упор на многозадачность, кратковременные задачи в приоритете, но на все случае жизни должна быть четкая инструкция и ненавязчивый контроль;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Заголовок 4"/>
          <p:cNvSpPr/>
          <p:nvPr/>
        </p:nvSpPr>
        <p:spPr>
          <a:xfrm>
            <a:off x="1055520" y="1197000"/>
            <a:ext cx="701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центы в процессе «прививания» норм и ценностей корпорации при работе с поколени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4978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1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ofstede, Geert (2001). Culture's Consequences: comparing values, behaviors, institutions, and organizations across nations (2nd ed.)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2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ofstede, Geert; Hofstede, Gert Jan (2005). Cultures and organizations: software of the mind (Revised and expanded 2nd ed.). New York: </a:t>
            </a:r>
            <a:r>
              <a:rPr b="0" i="1" lang="en-US" sz="1600" spc="-1" strike="noStrike" u="sng">
                <a:solidFill>
                  <a:srgbClr val="04617b"/>
                </a:solidFill>
                <a:uFillTx/>
                <a:latin typeface="Calibri"/>
              </a:rPr>
              <a:t>McGraw-Hill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3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"Culture Does Not Exist—An Interview with Professor Geert Hofstede". Centre for Intercultural Learning. Retrieved 11 April 2011.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4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McSweeney, B. (2002a) Hofstede's Identification of National Cultural Differences – A Triumph of Faith a Failure of Analysis, Human Relations, 55.1, 89–118.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5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ofstede, G. (2002) Dimensions Do Not Exist: A Reply to Brendan McSweeney, Human Relations, 55, November, pp. 1355-1361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6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ttp://www.worldvaluessurvey.org/wvs.jsp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7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ttps://geerthofstede.com/landing-page/hofstede_dimensions.php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8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ttp://www.lifecourse.com/assets/files/reports/CI_The_Millennial_Generation_04_2015.pdf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Заголовок 4"/>
          <p:cNvSpPr/>
          <p:nvPr/>
        </p:nvSpPr>
        <p:spPr>
          <a:xfrm>
            <a:off x="1055520" y="1197000"/>
            <a:ext cx="701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76000" y="52812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4617b"/>
                </a:solidFill>
                <a:latin typeface="Verdana"/>
              </a:rPr>
              <a:t>Смена парадигмы управления</a:t>
            </a:r>
            <a:br>
              <a:rPr sz="2500"/>
            </a:br>
            <a:r>
              <a:rPr b="1" lang="ru-RU" sz="2500" spc="-1" strike="noStrike">
                <a:solidFill>
                  <a:srgbClr val="04617b"/>
                </a:solidFill>
                <a:latin typeface="Verdana"/>
              </a:rPr>
              <a:t>в конце ХХ века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88680" y="1701360"/>
            <a:ext cx="62643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рансформация роли руководителя в системе управлени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71640" y="3284640"/>
          <a:ext cx="3429000" cy="214776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68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1b2c9"/>
                          </a:solidFill>
                          <a:latin typeface="Verdana"/>
                        </a:rPr>
                        <a:t>Устаревшее понимание роли руковод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Жестк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Обезличенные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Административные методы воз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Экспе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003640" y="2781360"/>
          <a:ext cx="3816360" cy="337824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6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1b2c9"/>
                          </a:solidFill>
                          <a:latin typeface="Verdana"/>
                        </a:rPr>
                        <a:t>Современная роль руковод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Гибкая система управления ресурс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Использование всех ресурсов конкурентоспособности на ры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Понимание специфики каждого рес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Харизмат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Рисунок 5" descr=""/>
          <p:cNvPicPr/>
          <p:nvPr/>
        </p:nvPicPr>
        <p:blipFill>
          <a:blip r:embed="rId1"/>
          <a:srcRect l="0" t="23842" r="0" b="54955"/>
          <a:stretch/>
        </p:blipFill>
        <p:spPr>
          <a:xfrm>
            <a:off x="7075440" y="28440"/>
            <a:ext cx="205596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560" y="4869000"/>
            <a:ext cx="7885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Смена парадигмы управления организации в виду смену технологического уклада жизни обществ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Появление новых ИКТ (информационно-коммуникационных технологий) «Цифровая экономика»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Усиление контактов с международным сообществом (глобализация социально-культурной среды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«Феминизация» общества и «мультикультурализм» в политике (уход от патриархальных устоев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Новые требования к лидерству/власт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Смена социокультурных установок общества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Заголовок 4"/>
          <p:cNvSpPr/>
          <p:nvPr/>
        </p:nvSpPr>
        <p:spPr>
          <a:xfrm>
            <a:off x="557280" y="836640"/>
            <a:ext cx="885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Факторы влияния на выбор модели социальной ответственности в</a:t>
            </a:r>
            <a:r>
              <a:rPr b="0" lang="en-US" sz="3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организаци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Заголовок 4"/>
          <p:cNvSpPr/>
          <p:nvPr/>
        </p:nvSpPr>
        <p:spPr>
          <a:xfrm>
            <a:off x="169236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мена поколени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https://im0-tub-ru.yandex.net/i?id=8e694d498c67faa56ebfc3e1e3f3c563&amp;n=11"/>
          <p:cNvPicPr/>
          <p:nvPr/>
        </p:nvPicPr>
        <p:blipFill>
          <a:blip r:embed="rId1"/>
          <a:srcRect l="0" t="0" r="31973" b="0"/>
          <a:stretch/>
        </p:blipFill>
        <p:spPr>
          <a:xfrm>
            <a:off x="324000" y="2205000"/>
            <a:ext cx="1295280" cy="952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bigpo.ru/potra/%D0%97%D0%B0%D0%B4%D0%B0%D1%87%D0%B8%3A+%D1%84%D0%BE%D1%80%D0%BC%D0%B8%D1%80%D0%BE%D0%B2%D0%B0%D1%82%D1%8C+%D1%85%D1%80%D0%BE%D0%BD%D0%BE%D0%BB%D0%BE%D0%B3%D0%B8%D1%87%D0%B5%D1%81%D0%BA%D0%B8%D0%B5+%D1%83%D0%BC%D0%B5%D0%BD%D0%B8%D1%8F%2C+%D1%80%D0%B0%D0%B7%D0%B2%D0%B8%D0%B2%D0%B0%D1%82%D1%8C+%D1%83%D0%BC%D0%B5%D0%BD%D0%B8%D0%B5+%D1%80%D0%B0%D0%B1%D0%BE%D1%82%D0%B0%D1%82%D1%8C+%D1%81+%D0%BA%D0%B0%D1%80%D1%82%D0%BE%D0%B9%3B+%D1%84%D0%BE%D1%80%D0%BC%D0%B8%D1%80%D0%BE%D0%B2%D0%B0%D1%82%D1%8C+%D1%83%D0%B2%D0%B0%D0%B6%D0%B5%D0%BD%D0%B8%D0%B5+%D0%BA+%D0%BB%D1%8E%D0%B4%D1%8F%D0%BC%2C+%D1%81%D0%BE%D0%B2%D0%B5%D1%80%D1%88%D0%B8%D0%B2%D1%88%D0%B8%D0%BC+%D0%B2%D0%B5%D0%BB%D0%B8%D0%BA%D0%B8%D0%B9+%D0%BF%D0%BE%D0%B4%D0%B2%D0%B8%D0%B3+%D0%B2+%D0%B3%D0%BE%D0%B4%D1%8B+%D0%92%D0%9E%D0%92.+%D0%9E%D0%B1%D0%BE%D1%80%D1%83%D0%B4%D0%BE%D0%B2%D0%B0%D0%BD%D0%B8%D0%B5a/476209_html_5c2a932d.png"/>
          <p:cNvPicPr/>
          <p:nvPr/>
        </p:nvPicPr>
        <p:blipFill>
          <a:blip r:embed="rId2"/>
          <a:srcRect l="17863" t="0" r="0" b="5266"/>
          <a:stretch/>
        </p:blipFill>
        <p:spPr>
          <a:xfrm>
            <a:off x="250920" y="4797360"/>
            <a:ext cx="5792760" cy="129564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4"/>
          <p:cNvSpPr/>
          <p:nvPr/>
        </p:nvSpPr>
        <p:spPr>
          <a:xfrm>
            <a:off x="324000" y="3213000"/>
            <a:ext cx="129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терянное покол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https://im2-tub-ru.yandex.net/i?id=c2b62fdb9dd156af0eea33967fc32855&amp;n=11"/>
          <p:cNvPicPr/>
          <p:nvPr/>
        </p:nvPicPr>
        <p:blipFill>
          <a:blip r:embed="rId3"/>
          <a:srcRect l="0" t="0" r="39531" b="0"/>
          <a:stretch/>
        </p:blipFill>
        <p:spPr>
          <a:xfrm>
            <a:off x="1692360" y="2205000"/>
            <a:ext cx="1150920" cy="952560"/>
          </a:xfrm>
          <a:prstGeom prst="rect">
            <a:avLst/>
          </a:prstGeom>
          <a:ln w="0">
            <a:noFill/>
          </a:ln>
        </p:spPr>
      </p:pic>
      <p:sp>
        <p:nvSpPr>
          <p:cNvPr id="220" name="Заголовок 4"/>
          <p:cNvSpPr/>
          <p:nvPr/>
        </p:nvSpPr>
        <p:spPr>
          <a:xfrm>
            <a:off x="4356000" y="3284640"/>
            <a:ext cx="187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1" lang="ru-RU" sz="1500" spc="-1" strike="noStrike">
                <a:solidFill>
                  <a:srgbClr val="04617b"/>
                </a:solidFill>
                <a:latin typeface="Calibri"/>
              </a:rPr>
              <a:t>Пепс</a:t>
            </a: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и (2е потерянное поколен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https://im2-tub-ru.yandex.net/i?id=7a49c85683631bc52ac52cc9a6608337&amp;n=11"/>
          <p:cNvPicPr/>
          <p:nvPr/>
        </p:nvPicPr>
        <p:blipFill>
          <a:blip r:embed="rId4"/>
          <a:srcRect l="0" t="0" r="31973" b="0"/>
          <a:stretch/>
        </p:blipFill>
        <p:spPr>
          <a:xfrm>
            <a:off x="2987640" y="2205000"/>
            <a:ext cx="1297080" cy="952560"/>
          </a:xfrm>
          <a:prstGeom prst="rect">
            <a:avLst/>
          </a:prstGeom>
          <a:ln w="0">
            <a:noFill/>
          </a:ln>
        </p:spPr>
      </p:pic>
      <p:sp>
        <p:nvSpPr>
          <p:cNvPr id="222" name="Заголовок 4"/>
          <p:cNvSpPr/>
          <p:nvPr/>
        </p:nvSpPr>
        <p:spPr>
          <a:xfrm>
            <a:off x="2987640" y="321300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lang="en-US" sz="1500" spc="-1" strike="noStrike">
                <a:solidFill>
                  <a:srgbClr val="04617b"/>
                </a:solidFill>
                <a:latin typeface="Calibri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https://im3-tub-ru.yandex.net/i?id=13bd13b1da287dbd2ce01c28b9af4526&amp;n=11"/>
          <p:cNvPicPr/>
          <p:nvPr/>
        </p:nvPicPr>
        <p:blipFill>
          <a:blip r:embed="rId5"/>
          <a:stretch/>
        </p:blipFill>
        <p:spPr>
          <a:xfrm>
            <a:off x="4356000" y="218916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224" name="Заголовок 4"/>
          <p:cNvSpPr/>
          <p:nvPr/>
        </p:nvSpPr>
        <p:spPr>
          <a:xfrm>
            <a:off x="1547640" y="3213000"/>
            <a:ext cx="15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Бэбибумер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2" descr="http://arhivach.org/storage/2/84/284eac93c5d400a72303cf52137e2d0b.jpg"/>
          <p:cNvPicPr/>
          <p:nvPr/>
        </p:nvPicPr>
        <p:blipFill>
          <a:blip r:embed="rId6"/>
          <a:srcRect l="7577" t="9090" r="6060" b="9090"/>
          <a:stretch/>
        </p:blipFill>
        <p:spPr>
          <a:xfrm>
            <a:off x="4859280" y="4797360"/>
            <a:ext cx="4105440" cy="1295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http://www.estrategiadigital.pt/wp-content/uploads/2013/07/gen-y.jpg"/>
          <p:cNvPicPr/>
          <p:nvPr/>
        </p:nvPicPr>
        <p:blipFill>
          <a:blip r:embed="rId7"/>
          <a:srcRect l="28476" t="0" r="28832" b="0"/>
          <a:stretch/>
        </p:blipFill>
        <p:spPr>
          <a:xfrm>
            <a:off x="6300720" y="2133720"/>
            <a:ext cx="1079640" cy="1225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http://internetua.com/upload/tinymce/images/03052013/ScreenClip7%D1%83%D1%83%D1%83%D1%86%D0%B08.png"/>
          <p:cNvPicPr/>
          <p:nvPr/>
        </p:nvPicPr>
        <p:blipFill>
          <a:blip r:embed="rId8"/>
          <a:stretch/>
        </p:blipFill>
        <p:spPr>
          <a:xfrm>
            <a:off x="7459560" y="2133720"/>
            <a:ext cx="16844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4"/>
          <p:cNvSpPr/>
          <p:nvPr/>
        </p:nvSpPr>
        <p:spPr>
          <a:xfrm>
            <a:off x="6227640" y="342900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lang="en-US" sz="1500" spc="-1" strike="noStrike">
                <a:solidFill>
                  <a:srgbClr val="04617b"/>
                </a:solidFill>
                <a:latin typeface="Calibri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Заголовок 4"/>
          <p:cNvSpPr/>
          <p:nvPr/>
        </p:nvSpPr>
        <p:spPr>
          <a:xfrm>
            <a:off x="7596360" y="342900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lang="en-US" sz="1500" spc="-1" strike="noStrike">
                <a:solidFill>
                  <a:srgbClr val="04617b"/>
                </a:solidFill>
                <a:latin typeface="Calibri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1835280" y="1154880"/>
            <a:ext cx="914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Теория поколений Н. Хоуви и В. Штрау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выявили 4 типа поколений, которые повторяются каждые 80 ле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Заголовок 4"/>
          <p:cNvSpPr/>
          <p:nvPr/>
        </p:nvSpPr>
        <p:spPr>
          <a:xfrm>
            <a:off x="169236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Статистика опросов студент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2226600" y="5307120"/>
            <a:ext cx="50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ные характеристики (по Г. Хофсте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2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7565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Заголовок 4"/>
          <p:cNvSpPr/>
          <p:nvPr/>
        </p:nvSpPr>
        <p:spPr>
          <a:xfrm>
            <a:off x="169236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Статистика опросов студент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"/>
          <p:cNvSpPr/>
          <p:nvPr/>
        </p:nvSpPr>
        <p:spPr>
          <a:xfrm>
            <a:off x="2226600" y="5307120"/>
            <a:ext cx="50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ные характеристики (по Г. Хофсте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2" descr=""/>
          <p:cNvPicPr/>
          <p:nvPr/>
        </p:nvPicPr>
        <p:blipFill>
          <a:blip r:embed="rId1"/>
          <a:stretch/>
        </p:blipFill>
        <p:spPr>
          <a:xfrm>
            <a:off x="806400" y="2060640"/>
            <a:ext cx="78598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семирный обзор ценностей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1996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38" name="Группа 1"/>
          <p:cNvGrpSpPr/>
          <p:nvPr/>
        </p:nvGrpSpPr>
        <p:grpSpPr>
          <a:xfrm>
            <a:off x="1835280" y="1196640"/>
            <a:ext cx="6262200" cy="5661360"/>
            <a:chOff x="1835280" y="1196640"/>
            <a:chExt cx="6262200" cy="5661360"/>
          </a:xfrm>
        </p:grpSpPr>
        <p:pic>
          <p:nvPicPr>
            <p:cNvPr id="239" name="Picture 2" descr="http://www.worldvaluessurvey.org/images/Cultural_map_WVS4_1996.jpg"/>
            <p:cNvPicPr/>
            <p:nvPr/>
          </p:nvPicPr>
          <p:blipFill>
            <a:blip r:embed="rId1"/>
            <a:stretch/>
          </p:blipFill>
          <p:spPr>
            <a:xfrm>
              <a:off x="1835280" y="1928880"/>
              <a:ext cx="4971960" cy="49291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0" name="Прямая со стрелкой 5"/>
            <p:cNvCxnSpPr/>
            <p:nvPr/>
          </p:nvCxnSpPr>
          <p:spPr>
            <a:xfrm>
              <a:off x="2340000" y="1196640"/>
              <a:ext cx="288000" cy="18104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41" name="Прямая со стрелкой 7"/>
            <p:cNvCxnSpPr/>
            <p:nvPr/>
          </p:nvCxnSpPr>
          <p:spPr>
            <a:xfrm flipH="1">
              <a:off x="3872880" y="1628280"/>
              <a:ext cx="562680" cy="12387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242" name="Прямая со стрелкой 8"/>
            <p:cNvCxnSpPr/>
            <p:nvPr/>
          </p:nvCxnSpPr>
          <p:spPr>
            <a:xfrm flipH="1">
              <a:off x="6155640" y="4508280"/>
              <a:ext cx="1942200" cy="144720"/>
            </a:xfrm>
            <a:prstGeom prst="straightConnector1">
              <a:avLst/>
            </a:prstGeom>
            <a:ln w="28440">
              <a:solidFill>
                <a:srgbClr val="009dd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5640" y="44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семирный обзор ценностей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2008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44" name="Группа 1"/>
          <p:cNvGrpSpPr/>
          <p:nvPr/>
        </p:nvGrpSpPr>
        <p:grpSpPr>
          <a:xfrm>
            <a:off x="1403280" y="1483920"/>
            <a:ext cx="6697800" cy="5383440"/>
            <a:chOff x="1403280" y="1483920"/>
            <a:chExt cx="6697800" cy="5383440"/>
          </a:xfrm>
        </p:grpSpPr>
        <p:pic>
          <p:nvPicPr>
            <p:cNvPr id="245" name="Picture 2" descr="http://www.worldvaluessurvey.org/images/Cultural_map_WVS5_2008.jpg"/>
            <p:cNvPicPr/>
            <p:nvPr/>
          </p:nvPicPr>
          <p:blipFill>
            <a:blip r:embed="rId1"/>
            <a:srcRect l="0" t="6480" r="17933" b="0"/>
            <a:stretch/>
          </p:blipFill>
          <p:spPr>
            <a:xfrm>
              <a:off x="1403280" y="1601640"/>
              <a:ext cx="5713560" cy="5265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6" name="Прямая со стрелкой 3"/>
            <p:cNvCxnSpPr/>
            <p:nvPr/>
          </p:nvCxnSpPr>
          <p:spPr>
            <a:xfrm>
              <a:off x="2469960" y="1601280"/>
              <a:ext cx="289440" cy="18104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47" name="Прямая со стрелкой 4"/>
            <p:cNvCxnSpPr/>
            <p:nvPr/>
          </p:nvCxnSpPr>
          <p:spPr>
            <a:xfrm flipH="1">
              <a:off x="3131280" y="1483920"/>
              <a:ext cx="361080" cy="16419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248" name="Прямая со стрелкой 5"/>
            <p:cNvCxnSpPr/>
            <p:nvPr/>
          </p:nvCxnSpPr>
          <p:spPr>
            <a:xfrm flipH="1">
              <a:off x="5940360" y="4868640"/>
              <a:ext cx="2161080" cy="73440"/>
            </a:xfrm>
            <a:prstGeom prst="straightConnector1">
              <a:avLst/>
            </a:prstGeom>
            <a:ln w="28440">
              <a:solidFill>
                <a:srgbClr val="009dd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семирный обзор ценностей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2017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50" name="Группа 2"/>
          <p:cNvGrpSpPr/>
          <p:nvPr/>
        </p:nvGrpSpPr>
        <p:grpSpPr>
          <a:xfrm>
            <a:off x="1562040" y="1907640"/>
            <a:ext cx="6248160" cy="4806000"/>
            <a:chOff x="1562040" y="1907640"/>
            <a:chExt cx="6248160" cy="4806000"/>
          </a:xfrm>
        </p:grpSpPr>
        <p:pic>
          <p:nvPicPr>
            <p:cNvPr id="251" name="Picture 2" descr="https://upload.wikimedia.org/wikipedia/commons/3/3a/Culture_Map_2017.png"/>
            <p:cNvPicPr/>
            <p:nvPr/>
          </p:nvPicPr>
          <p:blipFill>
            <a:blip r:embed="rId1"/>
            <a:stretch/>
          </p:blipFill>
          <p:spPr>
            <a:xfrm>
              <a:off x="1562040" y="2133360"/>
              <a:ext cx="6019920" cy="458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Группа 1"/>
            <p:cNvGrpSpPr/>
            <p:nvPr/>
          </p:nvGrpSpPr>
          <p:grpSpPr>
            <a:xfrm>
              <a:off x="2700360" y="1907640"/>
              <a:ext cx="5109840" cy="2385360"/>
              <a:chOff x="2700360" y="1907640"/>
              <a:chExt cx="5109840" cy="2385360"/>
            </a:xfrm>
          </p:grpSpPr>
          <p:cxnSp>
            <p:nvCxnSpPr>
              <p:cNvPr id="253" name="Прямая со стрелкой 4"/>
              <p:cNvCxnSpPr/>
              <p:nvPr/>
            </p:nvCxnSpPr>
            <p:spPr>
              <a:xfrm>
                <a:off x="2700360" y="1907640"/>
                <a:ext cx="288000" cy="180900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254" name="Прямая со стрелкой 6"/>
              <p:cNvCxnSpPr/>
              <p:nvPr/>
            </p:nvCxnSpPr>
            <p:spPr>
              <a:xfrm flipH="1">
                <a:off x="3215520" y="1908000"/>
                <a:ext cx="564120" cy="1237680"/>
              </a:xfrm>
              <a:prstGeom prst="straightConnector1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255" name="Прямая со стрелкой 8"/>
              <p:cNvCxnSpPr/>
              <p:nvPr/>
            </p:nvCxnSpPr>
            <p:spPr>
              <a:xfrm flipH="1">
                <a:off x="5866920" y="4150080"/>
                <a:ext cx="1943640" cy="143280"/>
              </a:xfrm>
              <a:prstGeom prst="straightConnector1">
                <a:avLst/>
              </a:prstGeom>
              <a:ln w="28440">
                <a:solidFill>
                  <a:srgbClr val="009dd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09:39:58Z</dcterms:created>
  <dc:creator>Жуков Олег</dc:creator>
  <dc:description/>
  <dc:language>en-US</dc:language>
  <cp:lastModifiedBy>Azel</cp:lastModifiedBy>
  <dcterms:modified xsi:type="dcterms:W3CDTF">2018-09-22T01:20:06Z</dcterms:modified>
  <cp:revision>129</cp:revision>
  <dc:subject/>
  <dc:title>ТЕМА: Ситуационное руководство и обратная связь</dc:title>
</cp:coreProperties>
</file>