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D5E3-A36D-4816-B500-A14B57813A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7FA0-A93A-494D-8847-0934AE64C5E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4D74-354C-4861-A961-0F5177ECBDE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946C-7C6C-4219-9A80-F5262DD7893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CBFE-FC7B-4420-AB12-F6592F01184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D84D-F1E9-4537-BCA0-E6146EC7E75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204F-8D67-42AB-BB76-5932438710A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8044-ABC7-46CA-BFDA-7922AD73F84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B6A5-D9F1-4AC7-90E4-BCFFD83F3DB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AC26-FB24-49CC-A91A-A3FE47F4D67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3DBD-AEEA-4F57-8AE8-D845147B8BA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F77-C97B-4F2C-B232-3A97A320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B11-F5D5-49E9-8450-A7FEF5C0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43F-FA99-4EB7-BCEF-1D2BABE9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CDC-2B1B-490A-B919-6709408F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574-7FFF-40CE-AFCB-D4A8C359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DDC-34CB-4337-9BDE-D36064B0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EE9-8160-4186-A5FC-82683AA0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228-F7B8-4D89-BB7A-71A17407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17A-D6DD-4ED1-ABF3-984743F1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3A3-B737-46E5-AD1C-EEF05BE7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6EB-64EE-4D1F-9273-769256D4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413-4A76-4642-A3AB-7DE39395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99D5-7306-4E82-8EDD-12A31A79E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89161537372@econ.msu" TargetMode="External"/><Relationship Id="rId3" Type="http://schemas.openxmlformats.org/officeDocument/2006/relationships/hyperlink" Target="mailto:89161537372@econ.msu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187280" y="164304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аспе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 руко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1"/>
          <p:cNvSpPr/>
          <p:nvPr/>
        </p:nvSpPr>
        <p:spPr>
          <a:xfrm>
            <a:off x="1241280" y="3860640"/>
            <a:ext cx="757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э.н., доцент кафедры экономики труда и персон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го факульте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У им. М.В. Ломонос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льцева Наталья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8916153737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187280" y="5589720"/>
            <a:ext cx="71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сентября 2018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68360" y="6597720"/>
            <a:ext cx="8345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ашивка 11"/>
          <p:cNvSpPr/>
          <p:nvPr/>
        </p:nvSpPr>
        <p:spPr>
          <a:xfrm>
            <a:off x="3419640" y="1341360"/>
            <a:ext cx="5400360" cy="151128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8" y="0"/>
                </a:lnTo>
                <a:lnTo>
                  <a:pt x="21600" y="10800"/>
                </a:lnTo>
                <a:lnTo>
                  <a:pt x="18578" y="21600"/>
                </a:lnTo>
                <a:lnTo>
                  <a:pt x="0" y="21600"/>
                </a:lnTo>
                <a:lnTo>
                  <a:pt x="3022" y="10800"/>
                </a:ln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поративные компетен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необходимые всем сотрудникам компани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ашивка 13"/>
          <p:cNvSpPr/>
          <p:nvPr/>
        </p:nvSpPr>
        <p:spPr>
          <a:xfrm>
            <a:off x="3419640" y="3068640"/>
            <a:ext cx="5400360" cy="151272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5" y="0"/>
                </a:lnTo>
                <a:lnTo>
                  <a:pt x="21600" y="10800"/>
                </a:lnTo>
                <a:lnTo>
                  <a:pt x="18575" y="21600"/>
                </a:lnTo>
                <a:lnTo>
                  <a:pt x="0" y="21600"/>
                </a:lnTo>
                <a:lnTo>
                  <a:pt x="3025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еджерские компетен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необходимые руководителям компании (всем или только определённого уровн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ашивка 14"/>
          <p:cNvSpPr/>
          <p:nvPr/>
        </p:nvSpPr>
        <p:spPr>
          <a:xfrm>
            <a:off x="3419640" y="4797360"/>
            <a:ext cx="5400360" cy="151128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8" y="0"/>
                </a:lnTo>
                <a:lnTo>
                  <a:pt x="21600" y="10800"/>
                </a:lnTo>
                <a:lnTo>
                  <a:pt x="18578" y="21600"/>
                </a:lnTo>
                <a:lnTo>
                  <a:pt x="0" y="21600"/>
                </a:lnTo>
                <a:lnTo>
                  <a:pt x="3022" y="10800"/>
                </a:lnTo>
                <a:close/>
              </a:path>
            </a:pathLst>
          </a:custGeom>
          <a:solidFill>
            <a:srgbClr val="5a605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ые (специфические) компетенц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обходимые только какой-то определённой категории сотрудников (например: менеджеры по продажа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Табличка 10"/>
          <p:cNvSpPr/>
          <p:nvPr/>
        </p:nvSpPr>
        <p:spPr>
          <a:xfrm>
            <a:off x="324000" y="2060640"/>
            <a:ext cx="2303280" cy="3816360"/>
          </a:xfrm>
          <a:custGeom>
            <a:avLst/>
            <a:gdLst>
              <a:gd name="textAreaLeft" fmla="*/ 271440 w 2303280"/>
              <a:gd name="textAreaRight" fmla="*/ 2031840 w 2303280"/>
              <a:gd name="textAreaTop" fmla="*/ 271440 h 3816360"/>
              <a:gd name="textAreaBottom" fmla="*/ 3544920 h 3816360"/>
            </a:gdLst>
            <a:ahLst/>
            <a:rect l="textAreaLeft" t="textAreaTop" r="textAreaRight" b="textAreaBottom"/>
            <a:pathLst>
              <a:path w="21600" h="35787">
                <a:moveTo>
                  <a:pt x="3600" y="0"/>
                </a:moveTo>
                <a:arcTo wR="3600" hR="3600" stAng="0" swAng="5400000"/>
                <a:lnTo>
                  <a:pt x="0" y="32187"/>
                </a:lnTo>
                <a:arcTo wR="3600" hR="3600" stAng="16200000" swAng="5400000"/>
                <a:lnTo>
                  <a:pt x="18000" y="3578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ь Компетенций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писывает качества, необходимые персоналу в данной компании для того, чтобы быть успеш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модели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468360" y="6572160"/>
            <a:ext cx="8345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" descr="Описание: Разработка модели компетенций"/>
          <p:cNvPicPr/>
          <p:nvPr/>
        </p:nvPicPr>
        <p:blipFill>
          <a:blip r:embed="rId2"/>
          <a:stretch/>
        </p:blipFill>
        <p:spPr>
          <a:xfrm>
            <a:off x="142920" y="1127160"/>
            <a:ext cx="88311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требо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его места к сотрудн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04920" y="1187280"/>
            <a:ext cx="8534160" cy="50947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Профессиональ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ж работы общий и по специа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кретные навыки и ум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3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официальных документов (лицензия, сертификат и др.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 Личност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нешний ви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нтеллектуальные каче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ачества характе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 Биографические и ситуацион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йное поло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данств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то житель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 «Умение работать в команд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F07A-9C34-42B2-AC2D-0C029D67902D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900000" y="1281240"/>
            <a:ext cx="748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обственные идеи по поводу решения зада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 интерес к точке зрения членов коман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группе достичь результ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ит вклад друг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ся к достижению консенсу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возникновения конфликта стремится его разрешать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ы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028"/>
          <p:cNvSpPr/>
          <p:nvPr/>
        </p:nvSpPr>
        <p:spPr>
          <a:xfrm>
            <a:off x="304920" y="1197000"/>
            <a:ext cx="8610480" cy="56620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Эффективность в работе с людь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представлять организацию на всех уровн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рожелательное отношение к подчиненны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мение сотрудничать с другими подразделениям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принимать реш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быстро усваивать новые знания и концеп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широкого взгляда на пробле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выявить ключевые моменты сложной проблемы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ичные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ибкость в подходе к проблем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товность принять ответствен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работать в чрезвычайных обстоятельствах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83808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ая специфик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52280" y="12304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ая специфик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описывающий параметры, которым должен обладать работник для успешного выполнения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 Роджер в 1930 г. «План семи пункт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2379600"/>
            <a:ext cx="2209680" cy="3796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43200" y="2379600"/>
            <a:ext cx="5638680" cy="37969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мые ка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762120" y="2836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048120" y="23796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762120" y="3218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762120" y="35989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4572000" y="2836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62120" y="3979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762120" y="4361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762120" y="47419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762120" y="5122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762120" y="5504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400800" y="2836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277080" y="29131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5029920" y="291312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475320" y="28828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каз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82920" y="321804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изический обл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691560" y="359892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сти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685800" y="397980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щая понят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699480" y="4361040"/>
            <a:ext cx="23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ециальные способ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693360" y="47419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нтерес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684720" y="51228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ерты харак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685440" y="5580000"/>
            <a:ext cx="17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нешние усло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 «Результативнос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50920" y="1125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ценка вклада должностного лица в результаты работы структурного подразделения и/или орган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787400"/>
          <a:ext cx="8928000" cy="4743720"/>
        </p:xfrm>
        <a:graphic>
          <a:graphicData uri="http://schemas.openxmlformats.org/drawingml/2006/table">
            <a:tbl>
              <a:tblPr/>
              <a:tblGrid>
                <a:gridCol w="295200"/>
                <a:gridCol w="8042400"/>
                <a:gridCol w="590400"/>
              </a:tblGrid>
              <a:tr h="3207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в рамках своих должностных обязанно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на взаимосвязанных участках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нескольких должно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бригады, сект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участка, групп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цеха, отд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управления, служб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департамента, дирек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предприятия,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предприятия,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грамма для менедж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1486080"/>
          <a:ext cx="8713800" cy="5157720"/>
        </p:xfrm>
        <a:graphic>
          <a:graphicData uri="http://schemas.openxmlformats.org/drawingml/2006/table">
            <a:tbl>
              <a:tblPr/>
              <a:tblGrid>
                <a:gridCol w="415800"/>
                <a:gridCol w="3395520"/>
                <a:gridCol w="546120"/>
                <a:gridCol w="544680"/>
                <a:gridCol w="544320"/>
                <a:gridCol w="544680"/>
                <a:gridCol w="544680"/>
                <a:gridCol w="544320"/>
                <a:gridCol w="544680"/>
                <a:gridCol w="544320"/>
                <a:gridCol w="544680"/>
              </a:tblGrid>
              <a:tr h="286920"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лох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орош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правленчески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выраженности лид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ые знания и навы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организовать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довести дело до кон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льность, смелость в принятии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ование миссии Комп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к разумному рис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действовать в нестандартных ситу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рганизовать взаимодействие с другими подраздел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пимость к разным точкам з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итетность (в т.ч. вне Компан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повести за собой люд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грамма для менедж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197000"/>
          <a:ext cx="8584920" cy="5361120"/>
        </p:xfrm>
        <a:graphic>
          <a:graphicData uri="http://schemas.openxmlformats.org/drawingml/2006/table">
            <a:tbl>
              <a:tblPr/>
              <a:tblGrid>
                <a:gridCol w="411120"/>
                <a:gridCol w="3346200"/>
                <a:gridCol w="534960"/>
                <a:gridCol w="535320"/>
                <a:gridCol w="537840"/>
                <a:gridCol w="535320"/>
                <a:gridCol w="537840"/>
                <a:gridCol w="538200"/>
                <a:gridCol w="534960"/>
                <a:gridCol w="538200"/>
                <a:gridCol w="5349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Лич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ед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нность Комп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сть, верность сло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5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Интеллектуальные; Эврис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культура, воспита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мление к учебе, зна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торство, инициатива, креа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мление готовить себе сме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уди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грамо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о - нравствен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у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сихо - физически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овеш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оспособность, вынос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еран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о-поведенческий порт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-менедж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712880" y="1341360"/>
          <a:ext cx="6819840" cy="507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1341360"/>
                    <a:ext cx="681984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7"/>
          <p:cNvSpPr/>
          <p:nvPr/>
        </p:nvSpPr>
        <p:spPr>
          <a:xfrm>
            <a:off x="228600" y="1197000"/>
            <a:ext cx="1981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Arial"/>
              </a:rPr>
              <a:t>Красные – слаб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  <a:ea typeface="Arial"/>
              </a:rPr>
              <a:t>Синие – ярк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оценки руков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65F9-5AAD-4249-AB9A-46FD45EB572E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57120" y="1446840"/>
            <a:ext cx="8429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дура оценки руководителей носит, как правило, комплексный характер, проводится периодически и включает в себ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по результатам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чаще всего на основе системы ключевых показателей эффективности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уровня профессиональных и общих зн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пример, методом компьютерного тестирования), а такж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профессиональных и личностных качеств руководителя   вышестоящими руководителями, коллегами и подчиненными сотрудниками (на основе профиля компетенций, путем составления профессиограмм или другим способ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5"/>
          <p:cNvGraphicFramePr/>
          <p:nvPr/>
        </p:nvGraphicFramePr>
        <p:xfrm>
          <a:off x="2124000" y="958680"/>
          <a:ext cx="6562800" cy="513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958680"/>
                    <a:ext cx="6562800" cy="51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7"/>
          <p:cNvSpPr/>
          <p:nvPr/>
        </p:nvSpPr>
        <p:spPr>
          <a:xfrm>
            <a:off x="228600" y="1143000"/>
            <a:ext cx="1981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Arial"/>
              </a:rPr>
              <a:t>Красные – слаб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  <a:ea typeface="Arial"/>
              </a:rPr>
              <a:t>Синие – ярк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о-поведенческий порт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ого дир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684360" y="255888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оценки руков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26E1-173F-428D-B9E9-1648C7B6967F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85840" y="140472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й целью оценки руководителей является повышение эффективности управленческого труда и направлено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вершенствование системы подбора, расстановки и ротации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верку соответствия руководителей занимаемой долж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ост мотивации, личной заинтересованности, инициативы и ответственности руководителей за достижение результатов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квалификации и развитие ключевых компетенций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тимальное использование экономических стимулов и социальных гаран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е условий для личностного развития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ботку и принятие кадровых ре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ц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FADD-CE69-49BC-B11C-716BBDEA612A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трелка вниз 4" descr=""/>
          <p:cNvPicPr/>
          <p:nvPr/>
        </p:nvPicPr>
        <p:blipFill>
          <a:blip r:embed="rId2"/>
          <a:stretch/>
        </p:blipFill>
        <p:spPr>
          <a:xfrm>
            <a:off x="115920" y="1231920"/>
            <a:ext cx="1279440" cy="5095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7"/>
          <p:cNvSpPr/>
          <p:nvPr/>
        </p:nvSpPr>
        <p:spPr>
          <a:xfrm>
            <a:off x="1482840" y="1484280"/>
            <a:ext cx="733716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́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лат. competere — соответствовать, подходить) — способность применять знания, умения, успешно действовать на основе практического опыта при решении задач общего рода, также в определенной широкой обл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13"/>
          <p:cNvSpPr/>
          <p:nvPr/>
        </p:nvSpPr>
        <p:spPr>
          <a:xfrm>
            <a:off x="1473120" y="4724280"/>
            <a:ext cx="7226280" cy="136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вокупность взаимосвязанных базовых качеств личности, включающее в себя применение знаний, умений и навыков в качественно – продуктивной деятельности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14"/>
          <p:cNvSpPr/>
          <p:nvPr/>
        </p:nvSpPr>
        <p:spPr>
          <a:xfrm>
            <a:off x="1482840" y="3114720"/>
            <a:ext cx="733716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базовое качество индивидуума, включающее в себя совокупность взаимосвязанных качеств личности, необходимых для качественно – продуктив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654120" y="3860640"/>
            <a:ext cx="849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DFB4-30F6-4EF6-882C-B3677F975AB1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низ 4"/>
          <p:cNvSpPr/>
          <p:nvPr/>
        </p:nvSpPr>
        <p:spPr>
          <a:xfrm>
            <a:off x="1403280" y="1197000"/>
            <a:ext cx="6337440" cy="936720"/>
          </a:xfrm>
          <a:prstGeom prst="downArrow">
            <a:avLst>
              <a:gd name="adj1" fmla="val 50000"/>
              <a:gd name="adj2" fmla="val 7790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987640" y="119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ция»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и персона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322200" y="3357720"/>
            <a:ext cx="83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8"/>
          <p:cNvSpPr/>
          <p:nvPr/>
        </p:nvSpPr>
        <p:spPr>
          <a:xfrm>
            <a:off x="395280" y="2276640"/>
            <a:ext cx="223200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пособность успешно действовать на основе практического опыта, умения и знаний при решении профессиональных зада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6516720" y="2276640"/>
            <a:ext cx="215892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евая компетенция организа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овокупность конкурентных преимуществ организац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 главный козыр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нкурентной или гиперконкурентной борь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0"/>
          <p:cNvSpPr/>
          <p:nvPr/>
        </p:nvSpPr>
        <p:spPr>
          <a:xfrm>
            <a:off x="2700360" y="2276640"/>
            <a:ext cx="374328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это личностная способность специалиста (сотрудника) решать определенный класс профессиональных задач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управлении персоналом чаще под компетенцией понимают формально описанные требования к личностным, профессиональным и др. качествам кандидата на поступление, сотрудника, или к группе сотрудников комп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термина «компетенц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тнос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трелка вправо 7"/>
          <p:cNvSpPr/>
          <p:nvPr/>
        </p:nvSpPr>
        <p:spPr>
          <a:xfrm>
            <a:off x="706320" y="1268280"/>
            <a:ext cx="7962840" cy="16560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окупность компетенций; наличие знаний и опыта, необходимых для эффективной деятельности в заданной предметной области называют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ю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англ. competenc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право 13"/>
          <p:cNvSpPr/>
          <p:nvPr/>
        </p:nvSpPr>
        <p:spPr>
          <a:xfrm>
            <a:off x="1042920" y="2997360"/>
            <a:ext cx="7626240" cy="165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потенциальная готовность решать задачи со знанием д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право 14"/>
          <p:cNvSpPr/>
          <p:nvPr/>
        </p:nvSpPr>
        <p:spPr>
          <a:xfrm>
            <a:off x="1403280" y="4724280"/>
            <a:ext cx="7265880" cy="1657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это обладание определённой компетенцией, то есть знаниями и опытом собственной деятельности, позволяющими выносить объективные суждения и принимать точные реш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мпетент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ятиугольник 4"/>
          <p:cNvSpPr/>
          <p:nvPr/>
        </p:nvSpPr>
        <p:spPr>
          <a:xfrm>
            <a:off x="684360" y="1268280"/>
            <a:ext cx="6624360" cy="865440"/>
          </a:xfrm>
          <a:custGeom>
            <a:avLst/>
            <a:gdLst>
              <a:gd name="textAreaLeft" fmla="*/ 0 w 6624360"/>
              <a:gd name="textAreaRight" fmla="*/ 6624720 w 6624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самостоятельной 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ятиугольник 11"/>
          <p:cNvSpPr/>
          <p:nvPr/>
        </p:nvSpPr>
        <p:spPr>
          <a:xfrm>
            <a:off x="1692360" y="5230800"/>
            <a:ext cx="6624720" cy="100656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9" y="0"/>
                </a:lnTo>
                <a:lnTo>
                  <a:pt x="21600" y="10800"/>
                </a:lnTo>
                <a:lnTo>
                  <a:pt x="199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 в сфере культурно-досугов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ятиугольник 12"/>
          <p:cNvSpPr/>
          <p:nvPr/>
        </p:nvSpPr>
        <p:spPr>
          <a:xfrm>
            <a:off x="1128600" y="3213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социально-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ятиугольник 17"/>
          <p:cNvSpPr/>
          <p:nvPr/>
        </p:nvSpPr>
        <p:spPr>
          <a:xfrm>
            <a:off x="900000" y="2205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гражданско-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ятиугольник 9"/>
          <p:cNvSpPr/>
          <p:nvPr/>
        </p:nvSpPr>
        <p:spPr>
          <a:xfrm>
            <a:off x="1403280" y="4221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бытовой сфе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ы компетен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268360" y="3473280"/>
            <a:ext cx="8345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вал 5"/>
          <p:cNvSpPr/>
          <p:nvPr/>
        </p:nvSpPr>
        <p:spPr>
          <a:xfrm>
            <a:off x="826920" y="1197000"/>
            <a:ext cx="280836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само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900000" y="2421000"/>
            <a:ext cx="2664000" cy="115236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ическое мыш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7"/>
          <p:cNvSpPr/>
          <p:nvPr/>
        </p:nvSpPr>
        <p:spPr>
          <a:xfrm>
            <a:off x="900000" y="3718080"/>
            <a:ext cx="2735280" cy="122364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устанавливать причинно-следственны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с двумя скругленными соседними углами 8"/>
          <p:cNvSpPr/>
          <p:nvPr/>
        </p:nvSpPr>
        <p:spPr>
          <a:xfrm>
            <a:off x="5219640" y="1197000"/>
            <a:ext cx="2952720" cy="1079640"/>
          </a:xfrm>
          <a:prstGeom prst="pi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рганизация и самоконтр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Шестиугольник 9"/>
          <p:cNvSpPr/>
          <p:nvPr/>
        </p:nvSpPr>
        <p:spPr>
          <a:xfrm>
            <a:off x="5148360" y="3790800"/>
            <a:ext cx="3024000" cy="11509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6e4e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в коман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с двумя скругленными противолежащими углами 16"/>
          <p:cNvSpPr/>
          <p:nvPr/>
        </p:nvSpPr>
        <p:spPr>
          <a:xfrm>
            <a:off x="5148360" y="2421000"/>
            <a:ext cx="3024000" cy="1224000"/>
          </a:xfrm>
          <a:prstGeom prst="pi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прогнозировать результаты и возможные последствия разных вариантов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араллелограмм 3"/>
          <p:cNvSpPr/>
          <p:nvPr/>
        </p:nvSpPr>
        <p:spPr>
          <a:xfrm>
            <a:off x="826920" y="5111640"/>
            <a:ext cx="2881440" cy="1195560"/>
          </a:xfrm>
          <a:prstGeom prst="parallelogram">
            <a:avLst>
              <a:gd name="adj" fmla="val 24994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с одним вырезанным углом 10"/>
          <p:cNvSpPr/>
          <p:nvPr/>
        </p:nvSpPr>
        <p:spPr>
          <a:xfrm>
            <a:off x="5219640" y="5111640"/>
            <a:ext cx="3168720" cy="1197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находить, формулировать и решать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7869-EA86-4A4F-9FBE-9A62B2C47111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Волна 8"/>
          <p:cNvSpPr/>
          <p:nvPr/>
        </p:nvSpPr>
        <p:spPr>
          <a:xfrm>
            <a:off x="179280" y="1197000"/>
            <a:ext cx="8569440" cy="1079640"/>
          </a:xfrm>
          <a:custGeom>
            <a:avLst/>
            <a:gdLst>
              <a:gd name="textAreaLeft" fmla="*/ 0 w 8569440"/>
              <a:gd name="textAreaRight" fmla="*/ 8569800 w 85694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способность самостоятельно искать, анализировать, отбирать, обрабатывать и передавать необходимую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Волна 11"/>
          <p:cNvSpPr/>
          <p:nvPr/>
        </p:nvSpPr>
        <p:spPr>
          <a:xfrm>
            <a:off x="179280" y="5229360"/>
            <a:ext cx="8640720" cy="1295280"/>
          </a:xfrm>
          <a:custGeom>
            <a:avLst/>
            <a:gdLst>
              <a:gd name="textAreaLeft" fmla="*/ 0 w 8640720"/>
              <a:gd name="textAreaRight" fmla="*/ 8641080 w 86407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муникатив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владение навыками взаимодействия с окружающими людьми, умение работать в группе. Знакомство с различными социальными рол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Волна 11"/>
          <p:cNvSpPr/>
          <p:nvPr/>
        </p:nvSpPr>
        <p:spPr>
          <a:xfrm>
            <a:off x="179280" y="2060640"/>
            <a:ext cx="8569440" cy="3384360"/>
          </a:xfrm>
          <a:custGeom>
            <a:avLst/>
            <a:gdLst>
              <a:gd name="textAreaLeft" fmla="*/ 222120 w 8569440"/>
              <a:gd name="textAreaRight" fmla="*/ 8791920 w 8569440"/>
              <a:gd name="textAreaTop" fmla="*/ 846000 h 3384360"/>
              <a:gd name="textAreaBottom" fmla="*/ 2538360 h 3384360"/>
            </a:gdLst>
            <a:ahLst/>
            <a:rect l="textAreaLeft" t="textAreaTop" r="textAreaRight" b="textAreaBottom"/>
            <a:pathLst>
              <a:path w="21600" h="21600">
                <a:moveTo>
                  <a:pt x="560" y="2700"/>
                </a:moveTo>
                <a:cubicBezTo>
                  <a:pt x="7480" y="-6865"/>
                  <a:pt x="14680" y="12265"/>
                  <a:pt x="21600" y="2700"/>
                </a:cubicBezTo>
                <a:lnTo>
                  <a:pt x="21040" y="18900"/>
                </a:lnTo>
                <a:cubicBezTo>
                  <a:pt x="14120" y="28465"/>
                  <a:pt x="6920" y="9335"/>
                  <a:pt x="0" y="18900"/>
                </a:cubicBezTo>
                <a:close/>
              </a:path>
            </a:pathLst>
          </a:custGeom>
          <a:solidFill>
            <a:srgbClr val="31859c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-познаватель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совокупность умений и навыков познавательной деятельности. Владение механизмами целеполагания, планирования, анализа, рефлексии, самооценки успешности собственной деятельности. Владение приемами действий в нестандартных ситуациях, эвристическими методами решения проблем. Владение измерительными навыками, использование статистических и иных методов позн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4:48:21Z</dcterms:created>
  <dc:creator>Хорошильцева Наталья Анатольевна</dc:creator>
  <dc:description/>
  <dc:language>en-US</dc:language>
  <cp:lastModifiedBy>marshev vadim ivanovich</cp:lastModifiedBy>
  <cp:lastPrinted>2015-04-19T17:12:16Z</cp:lastPrinted>
  <dcterms:modified xsi:type="dcterms:W3CDTF">2018-09-22T06:39:55Z</dcterms:modified>
  <cp:revision>31</cp:revision>
  <dc:subject/>
  <dc:title>Презентация PowerPoint</dc:title>
</cp:coreProperties>
</file>